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F8A-D67D-46D6-A8A6-81936838576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n early education of English influence children’s English ability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B6ED-AEDE-45D3-9101-A717C1E49D7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2768-D7DB-477D-A69E-C91BEE5C5A5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ulitzer prize-winning cartoonist Rube Goldberg was most famous for his ability to link one event to another — in outrageous fashio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is series o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cause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ads to th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effect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of a sharpened penci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berg cartoons: http://www.rube-goldberg.com/gallery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A57-F401-418C-9766-24E29637E29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ause is supported by few minor supports. While writing, these major and minor ideas should be adequately explained and exemplified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0922-8C8D-4E3A-8894-EDD129AAE3F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have grouped related effects under two main point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hysiologic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sychologic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, we have supported each effect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wo minor suppor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and 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writing, we should explain these major and minor supports b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giving examples and/or defining what we mea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ECC1-FF56-469E-8A9B-E7806EA5726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each major point should be supported with examples, statistics that show that there are some factories and deodorants that release chlorofluorocarbons, that there is a rise in the sea-level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odorants: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防臭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lorofluorocarbon gas: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含氯氟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破壞臭氧層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zone layer: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臭氧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: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紫外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149B-CEB3-42D4-AB8A-1F10B205915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B37-5D46-4197-9939-562EB591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7A2-50DF-416E-9A0C-1813F432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A6B-E53D-4629-8B26-EC4A1468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C0F-6592-4FDE-8E0C-E3538BD3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B39-FF60-495C-BDC7-94E41B4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B5D-5D97-41E2-9C50-AFBB5009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916-6B45-4AEB-A14C-3DAA5265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25C-AB0E-4047-A677-486719A6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F8A-F2D1-45F6-AEB8-C3E9EF40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4BF-2786-4262-9544-2C36347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938-3D12-4FFD-AAF5-11CE235E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861-87CD-4194-8AF5-BC9BC08A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0F52-106F-419E-B1C7-28352446F80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6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 and Effect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36) Why Students Are Po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attern does the writer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caus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Eff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llege students are po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hey cannot work fulltim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y have other expenses that working adults don’t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of a successful event or situation. Explain and discuss how to achieve such a suc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effects of the computer on the quality of your wri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an early education of English influence children’s English abilit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書卷 (水平) 3"/>
          <p:cNvSpPr/>
          <p:nvPr/>
        </p:nvSpPr>
        <p:spPr>
          <a:xfrm>
            <a:off x="3000240" y="2571840"/>
            <a:ext cx="3714840" cy="642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ltiple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書卷 (水平) 4"/>
          <p:cNvSpPr/>
          <p:nvPr/>
        </p:nvSpPr>
        <p:spPr>
          <a:xfrm>
            <a:off x="5000760" y="3643200"/>
            <a:ext cx="3571920" cy="642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ltipl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書卷 (水平) 5"/>
          <p:cNvSpPr/>
          <p:nvPr/>
        </p:nvSpPr>
        <p:spPr>
          <a:xfrm>
            <a:off x="5072040" y="5214960"/>
            <a:ext cx="3500640" cy="642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ltipl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by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28840"/>
            <a:ext cx="83296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1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tinguish between cause and effec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termine causes: "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y did this happen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identify effects: "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at happened because of this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 are out of ga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r car won't star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duce work hour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ess income / employer is irritated / more time to study / more time for family and frie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u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iked business in high school / salaries in the field are high / am good with numbers 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oose to major in accoun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 your thesis statemen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clearly whether you are discussing causes, effects, or both. Introduce  your main idea, using the terms "cause" and/or "effect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3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d and organize supporting detail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 up your thesis with relevant and sufficient details that are organ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ological. Details are arranged in the order in which the events occurr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of importance. Details are arranged from least to most important or vice vers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egorical. Details are arranged by dividing the topic into parts or catego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4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appropriate transi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end details smoothly in cause and effect ess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caus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, due to, on cause is, another is, since, for, first, second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Effec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as a result, thus, resulted in, one result is, another is, therefor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. Brainstor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lead to the particular event or situ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3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 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cla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the topic to wri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de a pattern you want to use in your writing (Effect-multiple causes / Cause-multiple effects / Chain effect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stor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lead to an event or a situation,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may follow a cau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. Clust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uste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proces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 that are similar so that the writer can develop the information into a thesis statement, topic, topic sentences, and supporting detail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3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cla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cluster the ideas into logical categories by eliminating irrelevant  or problematic id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. Outl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clustered ideas, compose the thesis stat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the subtopics for each body para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d details in the body para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vide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ive statistics or fac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13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cla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brainstorming ideas. Write the outline for your ess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 and Effect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 and effect essays are concerned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y things happ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u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happens as a 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auses (reasons) or the effects (results) of an event or sit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內容版面配置區 3" descr="The links of events_by Goldberg.jpg"/>
          <p:cNvPicPr/>
          <p:nvPr/>
        </p:nvPicPr>
        <p:blipFill>
          <a:blip r:embed="rId1"/>
          <a:stretch/>
        </p:blipFill>
        <p:spPr>
          <a:xfrm>
            <a:off x="285840" y="71280"/>
            <a:ext cx="8656560" cy="4929480"/>
          </a:xfrm>
          <a:prstGeom prst="rect">
            <a:avLst/>
          </a:prstGeom>
          <a:ln w="0">
            <a:noFill/>
          </a:ln>
        </p:spPr>
      </p:pic>
      <p:sp>
        <p:nvSpPr>
          <p:cNvPr id="53" name="文字方塊 4"/>
          <p:cNvSpPr/>
          <p:nvPr/>
        </p:nvSpPr>
        <p:spPr>
          <a:xfrm>
            <a:off x="285840" y="500076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window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(A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ly kit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(B)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C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ts small do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D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ing moth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scape and eat red flannel shir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F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weight of shirt becomes less, sho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G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s on switch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H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heats electric iro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I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burns hole in pant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J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Smok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K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s hole in tre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L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out opossu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M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jumps into baske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lling rop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O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lifting cag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P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llowing woodpecke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Q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chew wood from penci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R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sing lead. Emergency knif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lways handy in case opossum or the woodpecker gets sick and can'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Goldberg’s cartoon tell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ay “opening the window” sharpen the pencil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being a business man a cause of being a rich m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.13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oo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sent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para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 sentence (the cau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ing details (explanation)(examples and fa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atements / paraphr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m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/ Opin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p.136) Why Students Are Poo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vent under discuss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hoo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ckground information: What exampl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is statem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aus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ing details: Giving explanations? Showing statistic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lusion: Giving solutions or opinion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ltiple caus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evelopmental paragraph is devoted to one of the causes of the ev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圖片 3" descr="1.jpg"/>
          <p:cNvPicPr/>
          <p:nvPr/>
        </p:nvPicPr>
        <p:blipFill>
          <a:blip r:embed="rId1"/>
          <a:stretch/>
        </p:blipFill>
        <p:spPr>
          <a:xfrm>
            <a:off x="571680" y="2928960"/>
            <a:ext cx="8075520" cy="3714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Multiple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ffects of a certain situation are explained in separate paragraph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3071880"/>
            <a:ext cx="8143920" cy="3357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usal chains / Dom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vents lead to one anoth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71680" y="2714760"/>
            <a:ext cx="8143560" cy="328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6:52:56Z</dcterms:created>
  <dc:creator>Windows 使用者</dc:creator>
  <dc:description/>
  <dc:language>en-US</dc:language>
  <cp:lastModifiedBy>teacher</cp:lastModifiedBy>
  <dcterms:modified xsi:type="dcterms:W3CDTF">2009-05-25T09:01:40Z</dcterms:modified>
  <cp:revision>36</cp:revision>
  <dc:subject/>
  <dc:title>投影片 1</dc:title>
</cp:coreProperties>
</file>